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EE4-705E-4957-97BD-783D1E99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11D-9616-4240-ADE6-1A5AB80C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851-F665-427A-886A-EE57C7FB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E64-D49E-4CF9-812E-D5044800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D4C7-E100-4773-9BA8-5EA1C707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3ADB-531B-4BFA-B71F-E9E8B4C6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BC08-82AA-4D9D-AD91-4731C27E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7DC3-81EA-4823-8DD3-4E992C4C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B18A-D587-4F2B-86A9-33EAFAF0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C5A4-0F7E-46A8-87D3-017060C0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B6A6-2186-4F1F-A20C-75D4B8BD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EBD-F4CA-4C43-89CE-6EC68DAA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734C-4530-4D6B-A1B0-6CFD15A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1BD0-ADE6-421E-8CED-035E2ED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43DB-5089-43CC-8201-AF87CDD5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02DF-BABC-4BA1-A031-CFCEA77E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0A90-9133-45AA-A3FF-7684E68D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8CBD-7542-4426-8679-7B4AF9BB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F433-D0BC-4425-8CEF-0DAF0718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0D4F-442F-4CB5-85E8-DB60D249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3079-A6B5-453C-82A9-56BD32EE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8C6E-635C-4FE1-97A9-895A27D4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0B0-34A4-4C42-A533-459BEBAF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6E30-EB2E-43C1-8BD1-E9F24836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5CB5-C590-43E9-B6AD-5BAF2CB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8FF9-EE36-4AA4-92EC-08DDA498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396B-E7D8-4A68-9965-A8573B64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15D6-9507-4DB6-881F-4D464676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BA7F-9CE7-4A2E-8D1A-DF4923B4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46A0-1D1E-4046-94A3-FF53FE65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B9D0-12A0-44B0-A8BC-9C8ACED7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AF10-24E1-4794-ABCA-EB00F8A1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46D27-3ED3-4E60-A428-85F14CA5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B2B-5CFF-49B6-923A-92F11F3F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501C-29C4-4471-9462-FB3B939C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2835D-5388-42E1-B832-E9C76995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BD4F7-ECAD-4725-A6DB-A4A6720C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72175-3FE7-4759-9A23-813F62D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3E7C1-FDF1-4F1D-87E8-E5F01B7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0349-80D3-4D87-B68C-80D1C8B7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D783-F626-4855-98C1-7F79B48D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F656-14E7-4EE6-9FFC-D0D78EB7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C4773-2C1F-4760-B059-940AE998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47C2-1A3E-445C-82B3-52BF2128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1BD-2327-44E2-AFA8-8C5BD682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165FB-CE22-41BD-B295-1F57483C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3F58-9379-49EE-8EE5-E5440D5D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B1F42-9976-4845-B8ED-F888CB3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C5E2-4EE0-4EB5-B62F-1E143328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9917-68AB-476B-B00A-F26A6113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A199-233A-4B73-9228-255EDD05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B155-4AC8-43B9-8B78-81D1671A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0525-8E2C-41E7-9C71-30116BC1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D19D2-C765-4CF2-894B-EBF58DAD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EA98-B26C-471B-A5AE-6A1CB948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F7B-6D98-4917-903E-70491749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5C0B4-55FA-46BB-AC01-9FAE2109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032-25A2-43C8-B4FC-6F272BE2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B12-46CE-4D3E-9192-DB5BF8D5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542-8408-4740-B964-20A8CDC5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532C-D1C3-471D-BB4E-D4C415BF89D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2A15-D04B-4C4F-A22C-1EB80A9A61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8288-8B82-4F65-AB10-49E0A9BDFB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40EF-1897-44AE-B54B-7A9E072CE1F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E34-918E-4769-8D67-D4566442DA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464"/>
                </a:solidFill>
                <a:latin typeface="Cambria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464"/>
                </a:solidFill>
                <a:latin typeface="Cambria"/>
              </a:rPr>
              <a:t>Увод у фармацеутску пракс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Систем здравствене заштите у Србији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(Организација примарне, секундарне и терцијарне здравствене заштите, видови здравственог осигурања, начин уговарања здравствених услуг</a:t>
            </a:r>
            <a:r>
              <a:rPr b="0" lang="sr-CS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са здравственим установама, принципи упућивања пацијената) 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Начело правичности здравствене заштите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правичности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бран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искриминаци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илик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уж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нов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ра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л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таро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ационал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ипадно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оцијал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рекл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вероиспове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литичк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руг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беђе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мов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т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ултур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језик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врс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боле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сихичк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телес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нвалидитета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Начело приступачности здравствене заштите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приступачности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безбеђивањ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дговарајућ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грађаним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кој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физичк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географск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економск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доступ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дносн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културн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ихватљив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осебн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имарн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иво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свеобухватности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дравствене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свеобухватности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кључивањ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в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грађа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ис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з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имен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бједиње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мер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оступа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ко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бухвата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омоци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здрављ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евенци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болест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ви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нивоим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ан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дијагноз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лечењ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рехабилитациј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континуираности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дравствене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континуираности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купн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рганизациј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исте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ој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ор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би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функционал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веза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склађен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иво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д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имар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ек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кундар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терцијар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иво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ој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уж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епрекидн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штит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грађан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Републик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вак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животно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об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сталног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унапређења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квалитета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дравствене</a:t>
            </a:r>
            <a:r>
              <a:rPr b="0" lang="vi-VN" sz="3200" spc="-1" strike="noStrike">
                <a:solidFill>
                  <a:srgbClr val="696464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Начело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сталног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унапређења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квалитета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дравствен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заштите</a:t>
            </a:r>
            <a:r>
              <a:rPr b="1" lang="vi-V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стваруј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ера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активност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кој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клад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авремени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остигнући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едицинск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аук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акс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већавај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могућност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вољног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сход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мањивањ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ризик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других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ежељених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следиц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љ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дравствено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тањ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ојединц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аједниц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целин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Начело ефикасности здравствене заштит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Начело ефикасности здравствене заштите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остварује се постизањем најбољих могућих резултата у односу на расположива финансијска средства, односно постизањем највишег нивоа здравствене заштите уз најнижи утрошак средстав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96464"/>
                </a:solidFill>
                <a:latin typeface="Calibri"/>
              </a:rPr>
              <a:t>ЈАВНО ЗДРАВЉ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'‘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Н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ука и уметност </a:t>
            </a:r>
            <a:r>
              <a:rPr b="1" i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превенциј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 болести, </a:t>
            </a:r>
            <a:r>
              <a:rPr b="0" i="1" lang="sr-CS" sz="2600" spc="-1" strike="noStrike">
                <a:solidFill>
                  <a:srgbClr val="000000"/>
                </a:solidFill>
                <a:latin typeface="Cambria"/>
              </a:rPr>
              <a:t>продуживања живо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а и </a:t>
            </a:r>
            <a:r>
              <a:rPr b="1" i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унапређења менталног и физичког здравља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1" i="1" lang="sr-CS" sz="2600" spc="-1" strike="noStrike">
                <a:solidFill>
                  <a:srgbClr val="ff0000"/>
                </a:solidFill>
                <a:latin typeface="Cambria"/>
              </a:rPr>
              <a:t>ефикасности кроз организоване напоре заједниц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''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  “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Вештина и научни приступ у спречавању болести, продужавању животног века и промовисању здравља путем организованог напора друштва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96464"/>
                </a:solidFill>
                <a:latin typeface="Calibri"/>
              </a:rPr>
              <a:t>ЈАВНО ЗДРАВЉЕ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Јавно здравље укључује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програме и активности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ријентисане ка заједници, било да доприносе свима (на пример, чист ваздух и вода), или само појединцима (на пример: скрининг програми, саветовалишта за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превенцију болести, контролу хроничних болести...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96464"/>
                </a:solidFill>
                <a:latin typeface="Calibri"/>
              </a:rPr>
              <a:t>ЈАВНО ЗДРАВЉЕ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Области деловања јавног здравља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Физичко, ментално и социјално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Промоција здравља и превенција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Животна средина и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Радна околина и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Организација и функционисање здравственог систе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Функционисање здрваственог система у кризними ванредним услови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НОСИОЦИ АКТИВНОСТИ УЈАВНОМ ЗДРАВЉУ СУ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Perpetua"/>
                <a:ea typeface="Arial"/>
              </a:rPr>
              <a:t>ИНСТИТУТИ И ЗАВОДИ ЗА ЈАВНО ЗДРАВЉЕ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 КОЈИ ПЛАНИРАЈУ, ОРГАНИЗУЈУ, СПРОВОДЕ И ВРЕДНУЈУ АКТИВНОСТИ У ОБЛАСТИ ЈАВНОГ ЗДРАВЉА И СТРУЧНО ПОВЕЗУЈУ ОСТАЛЕ УЧЕСНИКЕ ЗДРАВСТВЕНОГ СИСТЕМА У СПРОВОЂЕЊУ ОВИХ АКТИВНОСТИ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инансирање здравствене зашт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ff0000"/>
                </a:solidFill>
                <a:uFillTx/>
                <a:latin typeface="Cambria"/>
              </a:rPr>
              <a:t>Републички завод за здравствено осигурањ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, са филијалама у сваком град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ходи завода: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од обавезног доприноса за здравствено осигурање запослених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Финансирање здравствених установа: кроз уговарање одређеног броја услуг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Систем здравствене заштит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истем здравствене заштите Републике Србије представља свеобухватани орагнизован систем који чине више различитих елемената који су интегрисани у једну целину у којој се обавља здравствена делатност на различитим нивоима здравствене заштите са јасно дефинисаним циљевима а чије функционисање је уређено Законом о здравственој заштити Републике Србије који је садржан у Службеном гласник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инансирање здравствене зашт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оцес финансирања здравственог система се остварује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као резултат садејства прикупљања средстава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формирањем фондова који та средства алоцирају ка одређеним сегментима здравственог система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Процеси прикупљања средстава подразумевају средства која се добијају кроз систем наплат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обавезног здравственог осигурања појединца, послодавца и друштв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инансирање здравствене зашт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Након те фазе прикупљена средства  се распоређују према корисницима тј осигураним лицима који могу да користе здравствене услуге на основу здр.осигурања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Прикупљена средства се корист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према принципу солидарности и узајамност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односно у зависности од висине месечних примања издвајају се различита средства а користеих сви према потребам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Овакав вид финансирањаје типичан за државни сектор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армацеутска здравствена делатност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mbria"/>
              </a:rPr>
              <a:t>фармацеутском здравственом делатношћу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 подразумева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Одговорно снадбевање лековима и другим медицинским средствима становништва, здравствених установа и приватне праксе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mbria"/>
              </a:rPr>
              <a:t>Обезбеђивање рационалне фармакотерапије ради лечења, побољшања и унапређивања квалитета живота оболелих коју спроводи дипломирани фармацеут, односно дипломирани фармацеут са одговарајућом специјализацијом у сарадњи са осталим здравственим радницим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Фармацеутска здравствена делатност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Cambria"/>
              </a:rPr>
              <a:t>Континуирани процес унапређења употребе лекова и медицинских средстав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Cambria"/>
              </a:rPr>
              <a:t>Стални надзор примене лекова и детекција нежељених ефеката леков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Здравствена делатност се спроводи у здравственим установама које могу бити основан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у јавној или приватној својин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а у оквир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примарне, секундарне и  терцијарне здравствене заштит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Здравствене установе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су: дом здравља, здравствена установа поликлиника, апотекарска установа,болница, здравствени центар, завод, завод за јавно здравље, клиника, институт,  клиничко болнички центар, универзитетски клинички центар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Примарна, секундарна и терцијарна здравствена зашти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Примарна здравствена заштита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 – установе у којима грађани могу да оду без упута: дом здравља, апотека, студентска поликлиника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завод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 за хитну медицинску помоћ, геронтологију, стоматологију, плућне болести и туберкулозу .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Дом здрављ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Дом здравља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- з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дравствена установа која обавља здравствену делатност на нивоу примарне здрваствене заштите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Превентивна здравствена заштита за све категорије становништ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дец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жен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опште медицин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кућног лечења..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денталне медицин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Лабораторијска и друга дијагностик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Здравствена заштита из области медицине рад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Специјалистичко консултативна  делатност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Апотекарска делатност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Циљеви здравствене заштите на примарном нивоу се остварују кроз :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1. систематске прегледе, контролне прегледе, вакцинацију и ревакцинацију 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2. систематске прегледе, контролне прегледе, прегледе у вези са планирањем породице, циљане прегледе на рано откривање рака грлића материце и дојке, прегледе током трудноће и у постпарталном период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3. с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стематске стоматолошке прегледе, контролне стоматолошке прегледе, скрининг ортодонтских неправилности и скрининг ризика на парадонтопатију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пецијалистичко консултативна  делат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еглед лекара специјалиста (офталмолог, оториноларинголог, интерниста, неуролог психијатар, пнеумофтизиолог, физикална медицина и рехабилитација): први и контролни преглед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sr-CS" sz="22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br>
              <a:rPr sz="2200"/>
            </a:br>
            <a:r>
              <a:rPr b="0" lang="en-US" sz="2200" spc="-1" strike="noStrike">
                <a:solidFill>
                  <a:srgbClr val="696464"/>
                </a:solidFill>
                <a:latin typeface="Franklin Gothic Book"/>
              </a:rPr>
              <a:t>Лабораторијска и друга дијагностика</a:t>
            </a:r>
            <a:br>
              <a:rPr sz="3600"/>
            </a:b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Лабораторијске анализе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Cambria"/>
              </a:rPr>
              <a:t>хематолошки параметри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(еритроцити, хемоглобин, хематокрит, леукоцити, тромбоцити, седиментација, леукоцитарна формула, протромбинско време, време крварења, факори коагулације, ретикулоцити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mbria"/>
              </a:rPr>
              <a:t>Биохемијске анализе крви и урина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(протеинограм, уреа, креатинин у крви, укупни билирубин, трансаминазе, липидограм, алкална,кисела фосфатаза, шећер у крви, ОГТТ, гвожђе, јонограм,фибриноген, гликолизирани хемоглобин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mbria"/>
              </a:rPr>
              <a:t>Микробиолошка лабораториј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кон о здравственој заштити Републике Србиј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кон уређује систем здравствене заштите, организацију здравствене бриге свих грађана, права и обавезе пацијената, заштиту страних лица, надзор над спровођењем овог закона..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 оквиру здрваственог система РС здравствена заштита је примарно орјентисана ка пацијент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sr-CS" sz="25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br>
              <a:rPr sz="2500"/>
            </a:br>
            <a:r>
              <a:rPr b="0" lang="en-US" sz="2500" spc="-1" strike="noStrike">
                <a:solidFill>
                  <a:srgbClr val="696464"/>
                </a:solidFill>
                <a:latin typeface="Franklin Gothic Book"/>
              </a:rPr>
              <a:t>Лабораторијска и друга дијагностика</a:t>
            </a:r>
            <a:br>
              <a:rPr sz="25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ијагно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с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ичке процедуре у оквиру дома здравља: рендген (срца, плућа,коштано мишићног система, графија гастродуоденума са контрастом.. ) и ултразвучна дијагностика (штитаста жлезда, срце,бубрези, крвни судови, кукови...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CS" sz="2800" spc="-1" strike="noStrike">
                <a:solidFill>
                  <a:srgbClr val="696464"/>
                </a:solidFill>
                <a:latin typeface="Calibri"/>
              </a:rPr>
              <a:t>Примарна здравствена заштита</a:t>
            </a:r>
            <a:br>
              <a:rPr sz="2800"/>
            </a:b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 Апотекарска делатност 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потекарска установ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дистрибуира лекове које финансира РЗЗО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(тзв. “позитивна листа”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mbria"/>
              </a:rPr>
              <a:t>прикупља партиципацију од пацијена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mbria"/>
              </a:rPr>
              <a:t>продаје лекове са “негативне листе” пацијенти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екунд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пецијалистичко – консултативна заштита (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сложенија него на примарном нивоу, обухвата и процесе лечења и рехабилитациј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Болничко здравствену делатност: дијагностика,лечење и рехабилитација и здравствена нега у болници, фармацеутска делатност у болничкој апотеци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екундарни ниво здравствене заштит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пшта хирур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инекологија са акушерством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терна медици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фект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ерматовенер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едијатр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екунд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пште болниц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пецијалне болниц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ерциј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јсложенији вид здравствене заштит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стварује се кроз делатност 4 клиничка центр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ерциј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уж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најсложеније облике здравствене заштите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, специјалистичко консултативне и болничке здравствене делатности, као и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научно истраживачку и образовну делат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Терцијарна здравствена зашти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лини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линички центар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ститу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линичко болнички центар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лужбе института или завода за заштиту здрављ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икроби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епидемиолог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оцијална медици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лужба хигијене (контрола исправности воде и намирница, услова у школама, вртићима, итд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96464"/>
                </a:solidFill>
                <a:latin typeface="Cambria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libri"/>
              </a:rPr>
              <a:t>Принципи добре комуникације фармацеута са пацијент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сновни циљ здравствене заштите у  Србији је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Cambria"/>
              </a:rPr>
              <a:t>да очување здравља становништва републике Србије буде на највишем нивоу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дравствена заштита подразумева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Cambria"/>
              </a:rPr>
              <a:t>скуп делатности које унапређују здравствено стање становништва кроз спречавање сузбијање и рано дијагностиковање болести, повреда и других поремећаја здравља, правовремено и ефикасно лечење и рехабилитацију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Однос и изглед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днос је општи емоционални став који радник заузима према својим дужностима на послу, муштеријама, послодавцу и сарадницима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сновно правило за све запослене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 увек представљате ваше предузеће пред муштеријама или пацијентима. Запамтите да сте у апотеци, у правном смислу, ви заступник вашег послодавца, и да сте у обавези да пружите одговарајућу услугу пацијенту. Ваш послодаваца мора да “одговара” за сваку вашу акцију.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офесионалан изглед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ацијент очекује највиши степен чистоће и професионализма када улази у апотеку; он поверава своје и здравље своје породице особљу апотек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 себи имати пристојну одећ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век имати чист, испеглан мантил, са беџом на коме је одштампано ваше им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ста коса, са уредном фризуром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Реаговати на пацијент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ада пацијент уђе у апотеку, треба му се одмах обратити; никако га не треба оставити да сам, збуњено, погледом трага за запослени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мислите како се осећате када сте у ресторану, а конобар не долази до вашег стола ни после неколико позив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оштујте приватност пацијен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и лекови се примењују на скривеним регијама тела, и пацијентима је често непријатно да о томе говор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креним, позитивним приступом, са поштовањем, без подсмеха или цинизма, треба дискретно подстаћи пацијента да искаже шта жел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ти са пацијентом довољно гласно, али тако да остали у просторији не чују шта се говор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 од пацијента тражите додатне личне податке или објашњења, учините то дискретно, тако да други пацијенти то не чују или вид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Насмешите се и успоставите контакт оч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ацијента увек треба гледати у оч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обродушан осмех на лицу ће опустити пацијента, и олакшати му да искаже своје тегобе и потреб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ећина људи сматра да гледање другога у очи док му се обраћате значи поштење, искреност и поштовањ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Будите љубазн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век се обраћати са “господине”, “госпођо”, “госпођице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68360" y="3141720"/>
          <a:ext cx="8229600" cy="301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ВАКО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ВЕЋ ОВА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 хоћет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ли вам помоћ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о га там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о, сада ћу вам показа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је 125 дина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ће изнети 100 динара, моли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ећи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ли помоћи следећем муштериј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Будите осетљиви на културне и језичке разлик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ко пацијент слабо познаје језик, говорите му полако, избегавајући сленг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тражите некога од запослених који добро говори језик којим пацијент говор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служите се цртежом да би боље комуницирали са пацијентом, ако је потребно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познајте културу људи који често долазе у вашу апотек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Комуницирајте у оквиру своје компетентност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ледите радне процедуре које су важеће у апотеци у којој рад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ужите пацијенту само оне информације које су вам добро позна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 бојте се да признате да не знате оно што излази из ваше компетен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икада пред пацијентима не оцењујте лекаре, фармацеуте или ваше колег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Комуникација телефоном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век започните разговор са “Добар дан”, а завршите са “Хвала на позиву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ажљиво слушајте и говорите мирним,природним гласом; глас треба да буде пријатељски, али не фамилијаран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ко неко добро не чује, стрпљиво поновите разговетно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 почетку разговора идентификујте себе и апотеку у којој радит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ајте само проверене информације преко телефон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Односи међу запослен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апамтите: “да би вас други поштовали, неопходно је да их ви поштујете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век задржите професионалан однос, концентришући се на садржину комуникације, а не на начин, који понекад може бити непримерен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икада не одговарајте на провокативна понашања, већ задржите професионалан однос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Здравствена заштита се остварује кроз здравствену делатност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дравствена делатност подразумев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Cambria"/>
              </a:rPr>
              <a:t>низ мера и активности које се заснивају на научним доказима, здравственој доктрини и употреби здравствених технологија, а са циљем да се очува и унапреди здравствено стање становништва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рофесионално понашањ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оштовати професионалну хијерархиј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збегавати фамилијар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ватни телефонски позиви и посете само у време пауз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 збијати шале на туђ рачун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 задирати у туђу приват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Вербална и невербална комуникациј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бро савладајте медицинску терминологи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те граматички правилно, књижевним језик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те довољно гласно, без скраћеница и речи из сленг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жљиво слушајте шта вам пацијенти говоре, и гледајте их у оч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удите стрпљив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слите о пацијентима генерално позитивно и гајите искрену жељу да им помогнете: тада ће ваша невербална комуникација то одражава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Увреде и расправа са пацијент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дозвољива је дискриминација пацијената по било ком основ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дозвољива је било каква увреда пацијен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 увреде не одговарајте против-увреда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век покушајте да смирите и рационализујете ситуациј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Фармацеутска здравствена заштита</a:t>
            </a:r>
            <a:br>
              <a:rPr sz="2800"/>
            </a:b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 Фармацеутска делатност у установама примарне, секундарне и терцијарне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дравствене 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</a:rPr>
              <a:t>заштите</a:t>
            </a:r>
            <a:r>
              <a:rPr b="0" lang="sr-C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У фокусу здравствених се налази пацијент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звој модерних здравствених система је допринео и промени концепта бриге о здрављу, у смислу преузимања веће одговорности становништва, првенствено значајним унапређењем промоциjе здравља и здравствене неге, као и адекватније употребе ресурса у оквиру здравствених систем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Хумани ресурси (лекари, фармацеути, стоматолози као и њихови сарадници) имају доминантну улогу у системима здравствене заштите становништва од којих се у модерним здравственим системима очекује виши степен интеракција, а у циљу унапређења здравственог стања пацијенат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914400" y="151920"/>
            <a:ext cx="777240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себан аспект развоја се односи и на позицију фармацеута у модерним здравственим системим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адиционална улога фармацеута је примарно усмерена не производњу и издавање леко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 савременим здравственим системима фармацеутска делатност обухвата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плекснији процес саветовања пацијената о употреби лекова и суплемена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ктивно учешће у процесу лечења и мониторинга примењене терап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чешће у превенцији, лечењу и мониторингу хроничних незаразних болести и превенцији и лечењу заразних боле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моцију здравља, превенцију дејстава различитих нокси из околине и лечење последица тровањ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9144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цепт фармацеутске здравствене заштите (eng. pharmaceutical care) </a:t>
            </a: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подразумева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ктивно и одговорно учешће фармацеута у процесу лечења пацијената са циљем остваривања унапред утврђених медицинских исхода који унапређују квалитет живота оболелих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нтеракције фармацеута како са пацијентима тако и са другим здравственим стручњацима у креирању, примени и надзору одређених терапијских процедур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фесионалне позиције фармацеута у савременом добу су значајне на свим нивоима здравствене заштите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000" y="333360"/>
            <a:ext cx="82040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Рад у апотеци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ипломирани фармацеут спроводи фармацеутску здравствену заштиту у оквиру апотека при домовима здравља на нивоу примарне здравствене заштит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оквиру примарне здравствене заштите фармацеутска делатност је усмерена на процесе  издавање лекова на рецепт и без рецепта уз адекватно саветовање пацијенат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ен рада са лековима у окружењу апотека у оквиру установа примарне здравствене заштите подразумева и процесе набавке лекова, адекватaн начин чувања и складиштења, припрему лекова, вођење и чување документације о сваком наведеном процес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91440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ермин "community pharmacy“ описује позицију и делатност фармацеута у модерним здравственим системима и односи се на процесе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давања лекова на рецепт и без рецепта ( (eng. Over-the-counter (OTC) - ОТЦ лекови који се издају без рецепта, на рачун,) уз адекватно саветовање пацијена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зраде лека у фармацеутском облику и дози, а према индивидуалним потребама пацијенат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илне едукације пацијената о употреби лека или медицинског средст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илног одабира показатеља (лабораторијских, клиничких) који се користе у мониторингу примењене терап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У спровођењу здравствене заштите учествују: пружаоци здравствене заштите, организације за здравствено осигурање, грађани, породица, послодавци, образовне али и друге установе,јединице локалне самоуправе,аутономне покрајине и  рс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900000" y="404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умачења исхода примењене терап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валуације клиничких извештаја и рецепа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авовремене детекције и превенције евентуалних грешака које могу бити повезане са применом лека (дуплирање лекова, интеракције између лекова, присуство контраиндикација, нежељене реакције на лекове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моције здравља и превентивних мера у циљу спречавања настанка акутних и хроничних болес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9144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армацеутска делатност у установама секундарне и терцијарне здравствене заштите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лога болничког фармацеута је сложениј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ред снабдевања болнице лековима подразумева и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ествовање у процесу лечењ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раду галенских препарат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ткривање интеракција између леко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авовремену детекцију нежељених реакција на леков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едукацију пацијената о примени лекова и медицинских средста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аћење потрошње леко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раду локалних терапијских протокол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д са радиофармацеутицим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раду фармакоекономских анализа за потребе болниц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ешће у раду регулаторних тела и различитих експертских група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Систем здравствене заштите чине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равствен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е установ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Високошколске установе здравствене струк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танове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приватне пракс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равствени радниц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З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равствени сарадници који обављају здравствену делатност у складу са законом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Организације за финансирање здравствене заштите.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Franklin Gothic Book"/>
              </a:rPr>
              <a:t>Систем здравствене заштите у Срби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сновна начела здравствене заштите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п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оштовања људских права и вредности права детета у</a:t>
            </a: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 здравствен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ој</a:t>
            </a: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 заштит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приступач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правич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свеобухват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континуираност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сталног унапређења система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97240" indent="-5972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ачело ефикасности система здравствене зашт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Начело п</a:t>
            </a:r>
            <a:r>
              <a:rPr b="1" lang="en-US" sz="2200" spc="-1" strike="noStrike">
                <a:solidFill>
                  <a:srgbClr val="ff0000"/>
                </a:solidFill>
                <a:latin typeface="Franklin Gothic Book"/>
              </a:rPr>
              <a:t>оштовања људских права и вредности права детета у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 здравствен</a:t>
            </a:r>
            <a:r>
              <a:rPr b="1" lang="en-US" sz="2200" spc="-1" strike="noStrike">
                <a:solidFill>
                  <a:srgbClr val="ff0000"/>
                </a:solidFill>
                <a:latin typeface="Franklin Gothic Book"/>
              </a:rPr>
              <a:t>ој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 заштит</a:t>
            </a:r>
            <a:r>
              <a:rPr b="1" lang="en-US" sz="2200" spc="-1" strike="noStrike">
                <a:solidFill>
                  <a:srgbClr val="ff0000"/>
                </a:solidFill>
                <a:latin typeface="Franklin Gothic Book"/>
              </a:rPr>
              <a:t>и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Пружање здравствене заштите подразумева се остварење највишег могућег стандарда људских права и вредности (право на живот, људско достојанство...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При пружању здравствене заштите детету најбољи интерес детета мора бити остварен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здравствена заштита детета мора бити прилагођена детету а право на правилан развој и заштита од свих облика насиља остварен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0:21:11Z</dcterms:created>
  <dc:creator>Bill Gates</dc:creator>
  <dc:description/>
  <dc:language>en-US</dc:language>
  <cp:lastModifiedBy>Marina Kostic</cp:lastModifiedBy>
  <dcterms:modified xsi:type="dcterms:W3CDTF">2023-08-30T09:24:33Z</dcterms:modified>
  <cp:revision>79</cp:revision>
  <dc:subject/>
  <dc:title>Систем здравствене заштите у Србији   (организација примарне, секундарне и терцијалне здраавствене заштите, видови здравственог осигурања, начин уговарања здравствених услуг са здравственим установама, принципи упућивања пацијената).</dc:title>
</cp:coreProperties>
</file>